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75F-6086-4638-92AF-C7ECD698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947-B838-48F8-9950-491F0D26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A1A-8E8D-4FD0-9A61-5C139EE4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008-8A1D-4BB3-8EA0-0A7F8777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EF5-AFA3-4B3B-AA75-2E150C3A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7CC2-BCF3-428F-A0C9-3E43BF8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33EC-C350-4C9D-A407-DE935FC4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C957-076E-4492-953E-8309B0F1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7390-3F23-4D09-806C-D779D64A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5120-FAC3-4498-90F6-B910E831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0AAC-8080-4A6B-96D2-342BC06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DA1-DA64-4B9F-AB0A-89F6CDA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4C64-CB50-4B09-91DC-C21695E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9D90-612E-44BC-91C4-FA29B835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3D0E-9081-4532-9387-2991DFE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F307-CF0C-4AC2-B66B-19B08D8A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404D-D9F9-4B38-A62E-ADF7BEE4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3D4-6833-4B40-807D-2AAD0CB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5DE-CD3C-4678-822C-9E33FD65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A21-3551-4C16-9F9E-C4BB3F09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B02-2008-4F98-9E68-B37225D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86C-1D0E-4F76-B0A1-0D67995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279-7097-4106-9859-DA795EF5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27E-1D42-49E6-89F6-1A95A64C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420F-9AA4-4FAB-A2DC-4A4F6F56936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78D1-5F51-4293-B2DA-385CEC002BB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健康知识与行为的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影响因素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健康教育能力建设课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14300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03280" y="836640"/>
            <a:ext cx="68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信息传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察觉信息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视而不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知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毫无兴趣                引起兴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感到需要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与己无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认真思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可有可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相信信息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怀疑信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产生动机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侥幸心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尝试行动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犹豫不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坚持行为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无法坚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为确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12536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16286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2133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7082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357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38606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4365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4941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51664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105264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628640"/>
            <a:ext cx="8384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20500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70828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328464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3860640"/>
            <a:ext cx="8384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437000"/>
            <a:ext cx="83808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501336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143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2895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6172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553080" y="11426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53080" y="289548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38098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553080" y="44956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54100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行为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5640" y="1752120"/>
            <a:ext cx="748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在因素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资源与环境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价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风俗习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政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分组讨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当地某健康问题为例，讨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目标人群需要掌握的知识、行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影响知识、行为的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分组汇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内容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69640" y="1699920"/>
            <a:ext cx="714708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健康知识与行为对健康的意义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健康知识与行为的影响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人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环境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35640" y="2781360"/>
          <a:ext cx="261792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781360"/>
                    <a:ext cx="261792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影响健康的因素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遗传生物因素                 行为生活方式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健康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环境因素                               卫生服务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92320" y="2503440"/>
            <a:ext cx="471168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知识与行为的作用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增强个人和家庭卫生，预防重大传染病、寄生虫病及地方病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改变生活方式，预防慢性非传染性疾病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积极利用卫生保健服务：计划免疫、定期体检、及时就诊、合理用药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3733920"/>
            <a:ext cx="685800" cy="144756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371600"/>
            <a:ext cx="685800" cy="1752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286000"/>
            <a:ext cx="533520" cy="2133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680" y="2514600"/>
            <a:ext cx="1155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健康促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内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876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外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1936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知识、信念 态度、价值观、技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12952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2666880"/>
            <a:ext cx="914400" cy="1447920"/>
          </a:xfrm>
          <a:prstGeom prst="ellipse">
            <a:avLst/>
          </a:prstGeom>
          <a:solidFill>
            <a:srgbClr val="a7f7b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137160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政策、财政    药物、卫生服务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5812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12952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295280"/>
            <a:ext cx="685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581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48769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410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2880" y="3581280"/>
            <a:ext cx="685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53760" y="28195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行为</a:t>
            </a: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26708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1447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取措施预防疾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895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认识疾病及时就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267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配合治疗积极康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6280" y="1676520"/>
            <a:ext cx="91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健康教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3280" y="3809880"/>
            <a:ext cx="12776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政府领导部门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514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11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20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352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182880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4114800"/>
            <a:ext cx="8384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知识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与家庭因素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得不到健康信息：缺乏获得信息的途径和资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关注健康信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健康信息不理解、记不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0400" y="2514600"/>
            <a:ext cx="0" cy="2438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638320" y="2057400"/>
            <a:ext cx="457560" cy="3276720"/>
            <a:chOff x="5638320" y="2057400"/>
            <a:chExt cx="457560" cy="3276720"/>
          </a:xfrm>
        </p:grpSpPr>
        <p:sp>
          <p:nvSpPr>
            <p:cNvPr id="197" name=""/>
            <p:cNvSpPr/>
            <p:nvPr/>
          </p:nvSpPr>
          <p:spPr>
            <a:xfrm>
              <a:off x="5867280" y="2514600"/>
              <a:ext cx="0" cy="2438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638320" y="205740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67280" y="205740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866920" y="487692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38680" y="487692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知识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5640" y="1752120"/>
            <a:ext cx="748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在因素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供健康信息的途径、方法、时间不符合人群的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健康信息的针对性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使用的材料不符合目标人群的特点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行为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与家庭因素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健康观念与知识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基本的卫生、健康技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采纳健康行为的资源与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18:57Z</dcterms:created>
  <dc:creator>sun</dc:creator>
  <dc:description/>
  <dc:language>en-US</dc:language>
  <cp:lastModifiedBy>DuanYong</cp:lastModifiedBy>
  <dcterms:modified xsi:type="dcterms:W3CDTF">2010-02-23T03:40:41Z</dcterms:modified>
  <cp:revision>59</cp:revision>
  <dc:subject/>
  <dc:title>健康传播</dc:title>
</cp:coreProperties>
</file>